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3E99-A88C-4CC7-A418-8BBEF2AC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872-DF85-4C75-85A1-9E98D643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E32-36CF-4FF8-B87B-517B1172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726-00EC-4564-B19A-20B18EF4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2C61-277E-4531-8C1D-F4EE7D19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62B0-5C6E-4DB3-8932-BFC3DAED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717A-8CB2-40CC-808B-406F235D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4FA2-FB6F-4F92-9802-2F2D6E89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5CCE-A8FE-4A42-9E2B-DF942648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4A1A-86A4-41A7-9867-307DD5AA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5150-6D73-42BC-89EF-F543AD61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985-5657-4E98-BA6B-B65AF5E8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108C-E108-4CD9-9275-A3BE0707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8C25-53D3-4D20-9E3B-29414D85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3E1A-9865-49BB-A6D9-2503A050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B153-E0C3-4947-8DD3-83E6567B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194F-E5A6-451A-B4F5-A1DD7BBF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B31-7D5F-44BB-B259-7E01B4EA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C06-F3BF-4D4D-A75C-A93A9636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CA4-B759-4188-88A0-BB4E8D86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AEB-D999-4DEB-AFE0-4F472B33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687-F7E5-4BDA-9E46-0B121127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DD8-5A9C-49DB-BBAD-894BDA6B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757-5BCF-41DB-804A-2D724CA4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0E38-F20B-4521-B4FC-22FC8B25BCF8}" type="slidenum"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628C-9383-4B44-8EFD-C1A39EDE459E}" type="slidenum"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ula.traduccion@uah.e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lideshare.net/makarenaaaaa/macarenaortizsaulbloqueii-presentatio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Recursos generales del traduct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anca Vitalar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Universidad de Alcalá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aula.traduccion@uah.e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RPUS idioma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Bilingüe/Multilingü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Colecciones de text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en varios idiom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Función: servir para estudios cuantitativos o estadístic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Criterios de selección muy divers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R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Elaborado por el traducto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Proyecto concreto de traduc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No son de acceso públic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Información recogida en Interne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Información sobre términos y expresiones concret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RPORA so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Estables y aceptados por la comunidad investigador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Elaborados según criterios estrict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Alto grado de fiabilida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Gran cantidad de informació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Incluyen información lingüística (corpus anotado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B NC (http:/ www.natcorp.ox.ac.uk/ / 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Comic Sans MS"/>
              </a:rPr>
              <a:t>C. Herramientas CAT/TA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Años 80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Necesidad de diseñar sistemas de traducción, para reaprovechar todo el tex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Ahorro temporal y económic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Comic Sans MS"/>
              </a:rPr>
              <a:t>Componentes</a:t>
            </a:r>
            <a:br>
              <a:rPr sz="4400"/>
            </a:b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Comic Sans MS"/>
              </a:rPr>
              <a:t>fundamenta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Memoria de traducció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Editor de tex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Sistemas de gestión de terminolog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Funciones de control de cali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Memorias de tradu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Herramientas que permiten al traductor  reaprovechar las traduccion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El texto traducido se almacena e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bases de dato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sistemas de material de referencia que gestionan segmentos de texto alineados (original y traducción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El texto se puede recuperar si durante la traducción aparecen segmentos idénticos o con cierto porcentaje de similitu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Comic Sans MS"/>
              </a:rPr>
              <a:t>D. Otros recurs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a Web: Interne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es fuente todo lo que se cuelga en la 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gran cantidad de información, calidad deja que desea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!!!Tener en cuenta factore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Autorí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aduci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Motores de búsqueda: utilizar buscadores que no primen tanto la cantidad de páginas registradas como la cali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nformación-conocimi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Ejemplo de fuent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Medios de comunicació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- El Paí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igit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-periodist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Hemeroteca de 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Mund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Revist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Obras de refere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Portales especializ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503000" y="2142720"/>
            <a:ext cx="619596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 Presentación sobre corpus basada en la de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Macaren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Ortiz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Sau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BloqueII </a:t>
            </a:r>
            <a:r>
              <a:rPr b="0" lang="ro-RO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slideshare.net/makarenaaaaa/macarenaortizsaulbloqueii-presentation/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Comic Sans MS"/>
              </a:rPr>
              <a:t>Herramientas de ayuda al traductor</a:t>
            </a: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. Recursos lexicográficos: versión sintétic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y equivalencia fuera de conte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. Corpus: versión analí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text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. Herramientas CAT/TAO: almacenami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 . Otros recur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66ff"/>
                </a:solidFill>
                <a:latin typeface="Comic Sans MS"/>
              </a:rPr>
              <a:t>Tipos de recursos</a:t>
            </a:r>
            <a:br>
              <a:rPr sz="4000"/>
            </a:br>
            <a:r>
              <a:rPr b="0" lang="es-ES_tradnl" sz="4000" spc="-1" strike="noStrike">
                <a:solidFill>
                  <a:srgbClr val="0066ff"/>
                </a:solidFill>
                <a:latin typeface="Comic Sans MS"/>
              </a:rPr>
              <a:t>A. Lexicográfic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549520"/>
            <a:ext cx="377676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nolingü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Bilingü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lingü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5480" y="2491920"/>
            <a:ext cx="377640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Especializ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nolingü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Bilingü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lingü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Comic Sans MS"/>
              </a:rPr>
              <a:t>Tipo de recursos</a:t>
            </a:r>
            <a:br>
              <a:rPr sz="4400"/>
            </a:br>
            <a:r>
              <a:rPr b="0" lang="es-ES_tradnl" sz="4400" spc="-1" strike="noStrike">
                <a:solidFill>
                  <a:srgbClr val="0066ff"/>
                </a:solidFill>
                <a:latin typeface="Comic Sans MS"/>
              </a:rPr>
              <a:t>B. Cor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84400"/>
            <a:ext cx="769608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Conjunto estructurado y documentado de text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Ejemplos reales de uso de la lengu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Lingüística del corpus: estudia la lengua a través de estas muestr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Tipos de cor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Monolingü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Bilingüe/Multilingüe: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compa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parale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line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direccion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idiom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ORPUS Monolingü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Textos de una sola lengu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Misma temátic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No son traduccion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Objetivo: dar cuenta de una lengua o variedad lingüístic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ORPUS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comparable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Bilingüe/Multilingü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84400"/>
            <a:ext cx="769608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Textos en más d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una lengu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Misma temátic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Características similar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Es posible establecer comparaciones interlingüístic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RPUS paralel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Bilingüe/Multilingü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69608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Textos en más de una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lengu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l mismo texto traducid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Útiles en la traducción automátic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ntornos: la ONU, la OTAN, la UE o Canadá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ORIGEN: Edad Media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“ biblias políglotas” , contenían textos uno al lado de otro en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hebreo, latín y griego, y a veces también versiones vernácula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El caso más conocido: </a:t>
            </a:r>
            <a:r>
              <a:rPr b="0" i="1" lang="ro-RO" sz="1800" spc="-1" strike="noStrike">
                <a:solidFill>
                  <a:srgbClr val="000000"/>
                </a:solidFill>
                <a:latin typeface="Comic Sans MS"/>
              </a:rPr>
              <a:t>Hansard Corpus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actas del parlamento canadiense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publicadas en francés e inglé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CORPUS alinead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Bilingüe/Multilingü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Textos está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dispuestos unos al lado de otros en párrafos o fras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Los pares de frases están identificados estableciendo las correspondenci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Más fácil extraer las equivalencias de traducción: elementos que son traducciones mutu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La alineación de oraciones y palabras se puede conseguir automática o semiautomáticamente con un alto grado de exactitu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8:59:14Z</dcterms:created>
  <dc:creator>LivBia</dc:creator>
  <dc:description/>
  <dc:language>en-US</dc:language>
  <cp:lastModifiedBy>LivBia</cp:lastModifiedBy>
  <dcterms:modified xsi:type="dcterms:W3CDTF">2008-11-06T10:08:09Z</dcterms:modified>
  <cp:revision>4</cp:revision>
  <dc:subject/>
  <dc:title>Recursos generales del traductor</dc:title>
</cp:coreProperties>
</file>